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B9F-B52B-4452-9D34-5CE3C688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07D-BA29-4FB7-84A7-F8052C5D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F87-B4AE-44B9-A2F8-AB320E6F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F96-B4B7-4F6F-A107-975A7EFE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6D97-5451-4C5D-9561-6505452E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2EE8-6F63-4439-ABC7-BDCF187E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679D-7A2B-4C50-9414-7121EFD3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862F-57D2-4ADA-8498-BC5B8B30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6F87-2448-42D6-B0CE-55C63A6E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A6C9-5397-4762-B681-36892B96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D7A6-9029-4877-AD4F-58B39198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739-6953-4772-B46E-DA6931BF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C0E2-1EF2-4204-ABA8-8DA4CFA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9A5-A2F8-4C69-B883-6ECDA220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872-1DD3-4D40-8C37-2BA62B21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4A24-6108-49EA-A3C5-EF7F58D3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3C8E-0248-4F24-A19D-26F26813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5BC-2C23-4D38-8B21-CEB8CFDA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BF1-F4D3-4504-B88A-E4737ABA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700-37DD-4604-B424-C9AD79B5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8B9-E797-4461-8F22-E60BEF6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E90-8D59-4225-9945-D9278705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404-632B-4A91-87FB-7F65DD12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4D0-873B-41FE-B08D-D8A050FF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72EF-8A75-4766-8E22-A9A0F9D22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7BCD-5C91-48F3-8D94-1AB4C1F3D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7846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ec94"/>
                </a:solidFill>
                <a:latin typeface="comic"/>
              </a:rPr>
              <a:t>Arte </a:t>
            </a:r>
            <a:br>
              <a:rPr sz="9600"/>
            </a:br>
            <a:r>
              <a:rPr b="0" lang="en-US" sz="9600" spc="-1" strike="noStrike">
                <a:solidFill>
                  <a:srgbClr val="feec94"/>
                </a:solidFill>
                <a:latin typeface="comic"/>
              </a:rPr>
              <a:t>Del </a:t>
            </a:r>
            <a:br>
              <a:rPr sz="9600"/>
            </a:br>
            <a:r>
              <a:rPr b="0" lang="en-US" sz="9600" spc="-1" strike="noStrike">
                <a:solidFill>
                  <a:srgbClr val="feec94"/>
                </a:solidFill>
                <a:latin typeface="comic"/>
              </a:rPr>
              <a:t>Realismo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 Bañ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Ánge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Espigad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v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 Cortadores De Mad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ouquet De Margarit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s Espigador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8974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ngel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El Rezo del Angelus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s Bañ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2669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ve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 Cortadores De Mad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7162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ouquet De Margarit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2387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eec94"/>
                </a:solidFill>
                <a:latin typeface="Times New Roman"/>
              </a:rPr>
              <a:t>Corot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1:53:11Z</dcterms:created>
  <dc:creator>Pc 8 </dc:creator>
  <dc:description/>
  <dc:language>en-US</dc:language>
  <cp:lastModifiedBy>Pc 8 </cp:lastModifiedBy>
  <dcterms:modified xsi:type="dcterms:W3CDTF">2008-12-18T12:30:53Z</dcterms:modified>
  <cp:revision>2</cp:revision>
  <dc:subject/>
  <dc:title>Arte  Del  Realismo</dc:title>
</cp:coreProperties>
</file>